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65C2-1D11-4303-902C-DDF6F1C4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E94-8C3A-493D-A6BF-63AFD35C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98BE-2A09-401C-AC68-1478C0CC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AF99-1ED4-4AAB-A878-F9611A9D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036A-765F-4A8A-A691-BA891BD0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7BDF-6BD5-4AA2-AAD1-C0E2732A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AA0C-C355-4B40-A0A6-019858C3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E797-A1D6-4947-89B9-3B242D4F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815D-2820-464D-AE2F-57E01701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0B14-A3BC-415A-A9BC-18E61E96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9DCA-050E-4C20-AA47-235DCAF2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905D-453E-447B-9017-9552F839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5E0C-E4A0-45C3-B72E-3EE4E810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E2EF-BD55-483C-A5CB-DE6E838C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EE24-BD0D-4966-BF84-9F4FCF58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9ABE-3D68-4FFB-8EE4-94ECFC44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A091-4DE7-42C4-B445-D2E4BB15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2202-2432-4198-9EDE-4E3958F2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681-100C-4297-85E0-5BEDAC39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423D-C0D8-441F-8970-A5DEBF67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2B12-F033-4BBB-8C37-D566E189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A444-EA1A-4311-A3AB-12A5F64B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48DC-8C7E-4A66-8F82-7B5AAD26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BC7-F6BD-4746-92E6-DDD3BA95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3B2F-896C-4E91-BBEF-2470E78AEE9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00D0-1973-43E8-A983-9EE62357D41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SOL in UK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is learning ESO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uge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ylum seek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ently arrived immigr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uropean Union (work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ng term UK resid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51055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Huge range in ESOL classes in terms of educational background, life experience and motivations for learning.  In one class you might find a doctor, a factory worker and a stay-at-home Mu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ere are they learning ESO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rther Education colleges (also ‘outreach centres’ – ‘in the community’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ult Education cent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s (Family Learn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ivate institu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they learn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OL curriculum in dedicated ESOL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ve levels:  Entry 1,2 and 3.  Level 1 and 2 (level 2 is GCSE equivalen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SOL embedded in content curriculum (e.g. engineering, childcare, beauty therapy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ttp://www.youtube.com/watch?v=KB950QpD7G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is fund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917280" y="2438280"/>
            <a:ext cx="8226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K government through ‘Skills for Life’ (Df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3733920"/>
            <a:ext cx="7696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99"/>
                </a:solidFill>
                <a:latin typeface="Arial"/>
              </a:rPr>
              <a:t>Who is teaching the student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s with a generic PGCE/Cert Ed. in PCET (Post-compulsory education and training) and an ESOL Certificate at Level 4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r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achers with an integrated PGCE in PCET/ESO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at the table that shows what students need to know/be able to do at different levels in listening.  Some sections have been removed.  Replace the sect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962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2.      Look at the texts used with students of ESOL.  What                                   level do you think this work is set a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95288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  Imagine you are a teacher working with these texts.  Choose one and design two activities that you feel would be suitable to help students either to understand these texts or to produce similar tex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se Study of an Embedded Cla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the text and answer the questi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2-01T10:15:4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